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7FB5-226A-43E2-A49B-E3A4F164C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90C71-0490-4297-996B-BB83DE17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E8D95-77CF-4954-B1B6-8620AED86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2239-088E-4838-AFFB-B6CCC53BF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EBAD7-96FD-481C-86AD-890FB36B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1F25-FDF3-43BB-918A-ED15D67E1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F369D-7DAA-4AC2-9E64-4CA101947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F924-BC46-4A35-9D18-1E2F4717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F153-BD6A-42EE-A5B9-EF2464F81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1FDBC-28EB-49A2-A795-1BFA232C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A374-2C59-416D-A50D-D1FD571E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1095-BE13-4A4F-8D8D-82590B3B2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54A6-904D-4671-865D-E767A6EE55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La Guerra de Core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Sergio Martorell y Seila Lóp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Ofensiva norcorean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apoyó entonces a Kim ll Sung en sus planes de invasión al sur. En junio de 1950 tropas del norte protegidas por unidades de blindados soviéticos cruzaron el paralelo 38 sin encontrar apenas resist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s días más tarde llegaban a Seúl. El gobierno surcoreano se retiró al sur y establecieron una zona de resistencia entorno a la ciudad de Pus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Reacción estadounidens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esta ofensiva el presidente de los EEUU Truman pidió la convocatoria del Consejo de Seguridad de la ONU y consiguió un mandato para ponerse al frente de un ejército que hiciera frente a la agresión norcoreana.</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usencia del delegado soviético (con derecho a veto), que había rechazado asistir a las reuniones del Consejo como protesta porque en el lugar reservado para China estaba ocupado por un representante de los nacionalistas chinos (refugiados en la isla de Taiwán como consecuencia de la subida al poder de Mao, comunista), propició esta resolución</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La contraofensiv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ropas de la ONU se ponen al mando del general Mac Arth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tropas desembarcan en Inchon desde donde se inicia una rápida contraofensiva que llega a conquistar más allá de Pyongyang, capital del norte, el 19 de octubre de 1950.</a:t>
            </a:r>
            <a:endParaRPr b="0" lang="en-US" sz="2400" spc="-1" strike="noStrike">
              <a:solidFill>
                <a:srgbClr val="000000"/>
              </a:solidFill>
              <a:latin typeface="Arial"/>
            </a:endParaRPr>
          </a:p>
        </p:txBody>
      </p:sp>
      <p:pic>
        <p:nvPicPr>
          <p:cNvPr id="61" name="" descr=""/>
          <p:cNvPicPr/>
          <p:nvPr/>
        </p:nvPicPr>
        <p:blipFill>
          <a:blip r:embed="rId1"/>
          <a:stretch/>
        </p:blipFill>
        <p:spPr>
          <a:xfrm>
            <a:off x="4932360" y="1557360"/>
            <a:ext cx="3416400" cy="48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140000" y="764640"/>
            <a:ext cx="454644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de la ONU y de los EEUU era llevar a los norcoreanos al otro lado del paralelo 3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mplido el objetivo, el general Mac Arthur y Syngman Rhee tras el éxito de la operación hicieron caso omiso y traspasaron el paralelo hasta llegar a la frontera China, situada en el río Yalu. Lo que propició la intervención China.</a:t>
            </a:r>
            <a:endParaRPr b="0" lang="en-US" sz="2400" spc="-1" strike="noStrike">
              <a:solidFill>
                <a:srgbClr val="000000"/>
              </a:solidFill>
              <a:latin typeface="Arial"/>
            </a:endParaRPr>
          </a:p>
        </p:txBody>
      </p:sp>
      <p:pic>
        <p:nvPicPr>
          <p:cNvPr id="63" name="" descr=""/>
          <p:cNvPicPr/>
          <p:nvPr/>
        </p:nvPicPr>
        <p:blipFill>
          <a:blip r:embed="rId1"/>
          <a:stretch/>
        </p:blipFill>
        <p:spPr>
          <a:xfrm>
            <a:off x="468360" y="1268280"/>
            <a:ext cx="3484440" cy="44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Intervención Chin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ina había advertido que reaccionaría si las fuerzas de la ONU sobrepasaban el límite de la frontera en el río Yal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norcoreanos y los chinos realizaron una ofensiva imparable, para volver a tomar Seú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os momentos el general Mac Arthur propone un bombardeo atómico en el norte de China.</a:t>
            </a:r>
            <a:endParaRPr b="0" lang="en-US" sz="2400" spc="-1" strike="noStrike">
              <a:solidFill>
                <a:srgbClr val="000000"/>
              </a:solidFill>
              <a:latin typeface="Arial"/>
            </a:endParaRPr>
          </a:p>
        </p:txBody>
      </p:sp>
      <p:sp>
        <p:nvSpPr>
          <p:cNvPr id="66" name=""/>
          <p:cNvSpPr/>
          <p:nvPr/>
        </p:nvSpPr>
        <p:spPr>
          <a:xfrm>
            <a:off x="0" y="189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0" y="4549680"/>
            <a:ext cx="9144000" cy="1800"/>
          </a:xfrm>
          <a:prstGeom prst="rect">
            <a:avLst/>
          </a:prstGeom>
          <a:noFill/>
          <a:ln w="0">
            <a:noFill/>
          </a:ln>
        </p:spPr>
        <p:style>
          <a:lnRef idx="0"/>
          <a:fillRef idx="0"/>
          <a:effectRef idx="0"/>
          <a:fontRef idx="minor"/>
        </p:style>
        <p:txBody>
          <a:bodyPr wrap="none" lIns="90000" rIns="90000" tIns="-45000" bIns="-45000" anchor="ctr">
            <a:spAutoFit/>
          </a:bodyPr>
          <a:p>
            <a:endParaRPr b="0" lang="en-US" sz="1800" spc="-1" strike="noStrike">
              <a:solidFill>
                <a:srgbClr val="000000"/>
              </a:solidFill>
              <a:latin typeface="Arial"/>
            </a:endParaRPr>
          </a:p>
        </p:txBody>
      </p:sp>
      <p:pic>
        <p:nvPicPr>
          <p:cNvPr id="68" name="" descr="Soldado estadounidense ejecutado por las fuerzas chinas."/>
          <p:cNvPicPr/>
          <p:nvPr/>
        </p:nvPicPr>
        <p:blipFill>
          <a:blip r:embed="rId1"/>
          <a:stretch/>
        </p:blipFill>
        <p:spPr>
          <a:xfrm>
            <a:off x="4572000" y="1916280"/>
            <a:ext cx="4284720" cy="32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ayor parte del Congreso de los EEUU se escandaliza, entonces, el presidente Truman destituye a Mac Arthur y nombra al general Ridgway que consigue frenar la ofensiva y recuperar Seú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vuelve a poner la frontera en el paralelo 38 como solución de la ONU para preservar la pa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arzo de 1951 la situación estaba pareja y la guerra ya no tuvo grandes ofensivas; se limitó a la toma de pequeños territori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El armisticio de Panmunjong</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4038480" cy="442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URSS manifestó su intención de no intervenir en el conflicto y su deseo de que coexistieran dos sistemas diferentes en la penínsu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puesta llevó a la apertura de negociaciones que concluyeron en julio de 195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él se acordó una nueva línea fronteriza que serpenteaba en torno al paralelo 38.</a:t>
            </a:r>
            <a:endParaRPr b="0" lang="en-US" sz="2000" spc="-1" strike="noStrike">
              <a:solidFill>
                <a:srgbClr val="000000"/>
              </a:solidFill>
              <a:latin typeface="Arial"/>
            </a:endParaRPr>
          </a:p>
        </p:txBody>
      </p:sp>
      <p:pic>
        <p:nvPicPr>
          <p:cNvPr id="72" name="" descr=""/>
          <p:cNvPicPr/>
          <p:nvPr/>
        </p:nvPicPr>
        <p:blipFill>
          <a:blip r:embed="rId1"/>
          <a:stretch/>
        </p:blipFill>
        <p:spPr>
          <a:xfrm>
            <a:off x="4648320" y="2481120"/>
            <a:ext cx="4038480" cy="27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onsecuencia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de treinta meses después de iniciado el conflicto se firmó el alto al fuego, y se inició una posguerra plagada de incidentes, tensiones e inestabilidad en toda la z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de 50 años después no se ha firmado ningún tratado de paz.</a:t>
            </a:r>
            <a:endParaRPr b="0" lang="en-US" sz="2000" spc="-1" strike="noStrike">
              <a:solidFill>
                <a:srgbClr val="000000"/>
              </a:solidFill>
              <a:latin typeface="Arial"/>
            </a:endParaRPr>
          </a:p>
        </p:txBody>
      </p:sp>
      <p:pic>
        <p:nvPicPr>
          <p:cNvPr id="75" name="" descr="Panmunjeom, frontera entre el Sur y el Norte de Corea en la Zona Desmilitarizada."/>
          <p:cNvPicPr/>
          <p:nvPr/>
        </p:nvPicPr>
        <p:blipFill>
          <a:blip r:embed="rId1"/>
          <a:stretch/>
        </p:blipFill>
        <p:spPr>
          <a:xfrm>
            <a:off x="2987640" y="1341360"/>
            <a:ext cx="3295800" cy="24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orea</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00.000 de coreanos murieron en el conflicto. La guerra dejó a la península dividida permanentemente en un guarnecido estado comunista pro-soviético en Corea del Norte y uno capitalista pro-estadounidense en Corea del S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tropas de Estados Unidos aún permanecen en la frontera actualmente, así como un gran número de corea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es la frontera más fuertemente defendida en la Tier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la única “frontera de la Guerra Fría” que ha durado hasta el siglo XX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EEUU</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EUU sufrió más de 44.000 mue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uerra también cambió la visión de Estados Unidos sobre el Tercer Mundo. El presupuesto en defensa alcanzó los $50.000 millones de dólares, el ejército fue duplicado en tamaño, como lo fue el número de grupos aére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Los primeros estadounidenses muertos en la guerra fueron repatriados a bordo del USS Randall, se muestra aquí en Yokohama, Kanagawa el 11 de marzo, 1951."/>
          <p:cNvPicPr/>
          <p:nvPr/>
        </p:nvPicPr>
        <p:blipFill>
          <a:blip r:embed="rId1"/>
          <a:stretch/>
        </p:blipFill>
        <p:spPr>
          <a:xfrm>
            <a:off x="4500720" y="2349360"/>
            <a:ext cx="4176720" cy="290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lonia japones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a se hallaba bajo influencia China hasta la derrota de ésta contra Japón. Japón en sus ambiciones expansionistas quería imponer un nuevo orden en Asia Oriental acorde con su idea del “espacio v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 la derrota China a inicios del siglo XX Corea se convierte en protectorado japonés en 1905 y ya en 1910 se la anexiona definitiv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China</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rededor de un millón de chinos murieron en la Guerra de Co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uerra también fue usada como una excusa para que las autoridades de la RPC reprimieran masivamente a los disidentes e imponer fuertes censuras. </a:t>
            </a:r>
            <a:endParaRPr b="0" lang="en-US" sz="2400" spc="-1" strike="noStrike">
              <a:solidFill>
                <a:srgbClr val="000000"/>
              </a:solidFill>
              <a:latin typeface="Arial"/>
            </a:endParaRPr>
          </a:p>
        </p:txBody>
      </p:sp>
      <p:pic>
        <p:nvPicPr>
          <p:cNvPr id="83" name="" descr="Un soldado chino muerto en combate por las fuerzas estadounidenses durante un ataque en Hill 105 en 1951."/>
          <p:cNvPicPr/>
          <p:nvPr/>
        </p:nvPicPr>
        <p:blipFill>
          <a:blip r:embed="rId1"/>
          <a:stretch/>
        </p:blipFill>
        <p:spPr>
          <a:xfrm>
            <a:off x="468360" y="2205000"/>
            <a:ext cx="4114800" cy="33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URS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URSS tuvo un cambio sustancial en su política exterior. En 1953 muere Stalin y comienza la política de “coexistencia pacífica” orientada por la necesidad de este país de orientar mayores recursos económicos a la producción industrial y al avance tecnológico. Esto fue mal visto por Mao y las relaciones entre la URSS y China comenzaron a ser cada vez más conflictivas hasta que en 1960 se produjo el dist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Japó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pón fue el gran beneficiado de la guerra. Los requerimientos de material de EEUU hicieron que las compañías japonesas recibieran grandes benef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60280"/>
            <a:ext cx="9144000" cy="633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22960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dominación japonesa en Corea fue atroz.</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japoneses utilizaron a los coreanos como auténticos esclavos a su servicio: privándoles de sus derechos y de su organización social, fueron tratados brutalmente sometiéndolos a todo tipo de abusos y vej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resistencia coreana solo logró </a:t>
            </a:r>
            <a:r>
              <a:rPr b="0" lang="es-ES" sz="3200" spc="-1" strike="noStrike">
                <a:solidFill>
                  <a:srgbClr val="000000"/>
                </a:solidFill>
                <a:latin typeface="Arial"/>
              </a:rPr>
              <a:t>algunos éxitos a finales de los años treinta, manteniendo una pequeña zona liberada en los bosques y montañas del norte en la frontera con Manchu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ituación tras la Segunda Guerra Mundial</a:t>
            </a:r>
            <a:endParaRPr b="0" lang="en-US" sz="4000" spc="-1" strike="noStrike">
              <a:solidFill>
                <a:srgbClr val="000000"/>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 la derrota de Japón en la Segunda Guerra Mundial desaparece su imperio en Asia Orien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vencedores de la Segunda Guerra Mundial acordaron que los japoneses se rendirían al norte a los soviéticos, con capital en Pyongyang, y al sur a los norteamericanos, con capital en Seúl. Norte y sur se separaban con la línea imaginaría del paralelo 3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Arial"/>
              </a:rPr>
              <a:t>La Pre-Guerr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as coreas querían unirse en una sola, pero cada una quería imponer al futuro estado su ideología polít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el norte Kim II Sung, dirigente norcoreano colocado por la URSS quería introducir el comunismo en el sur, y para ello tenía, sino había acuerdo, planes de inva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yngman Rhee, dirigente surcoreano colocado por EEUU, quería imponer el capitalis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cia de Core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a no tenía el mismo valor para las dos grandes superpotenc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la URSS, Corea era una pieza clave para lograr expandir el comunismo por toda A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mbargo, los EEUU no ocultaban su escaso interés por Corea. Truman reconoció públicamente su desinterés por el territorio coreano. Este hecho confundió a Stalin que se convenció de que EEUU no entraría en guerra en caso de una invasión norcoreana en Corea del S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0000"/>
                </a:solidFill>
                <a:latin typeface="Arial"/>
              </a:rPr>
              <a:t>La Guerr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f1b8"/>
            </a:gs>
            <a:gs pos="100000">
              <a:srgbClr val="333399"/>
            </a:gs>
          </a:gsLst>
          <a:lin ang="81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79640" y="0"/>
            <a:ext cx="53290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6:06:13Z</dcterms:created>
  <dc:creator>WinuE</dc:creator>
  <dc:description/>
  <dc:language>en-US</dc:language>
  <cp:lastModifiedBy>ies</cp:lastModifiedBy>
  <dcterms:modified xsi:type="dcterms:W3CDTF">2008-05-29T06:43:27Z</dcterms:modified>
  <cp:revision>21</cp:revision>
  <dc:subject/>
  <dc:title>La Guerra de Corea</dc:title>
</cp:coreProperties>
</file>